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1906EC7-A4E3-4B93-9C53-1D647DD9B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CCD-466F-485B-83DC-80B18F92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C6F-599F-420E-9999-73115588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AA8-E6E2-467B-B55F-87CAF4C0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C2E-7241-40AA-BBC9-D697A616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F3E1-809E-45EE-B2E8-E1FA4A27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409-BF50-4751-A837-5808579A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AFC-6152-4467-AE25-FB2F4379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5263-3D9A-42F2-90D9-4DCD9BC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324F-B562-4AFB-823A-51D40B92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DC76-2B55-43BB-94F6-15559081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9A4D-C791-40E9-9553-84932D9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FDB-BD9A-4A69-8DAB-A58474E9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A6DD-6725-4969-AE20-75B894A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4B9F-23F8-4E12-836E-6900C55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BE62-13FA-4489-945E-290B8556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2D60-4D36-4F00-BECC-9D8EA4B5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2D45-8EE6-48A3-A943-E6E6C13A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FD6-A2DF-4D72-AD6E-902FBEF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DD9-D018-485C-B109-F43447D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2F4-48AF-4C6C-A766-2D8C2AF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BC9-D5F3-41E9-A684-14AC3021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132-124C-476F-A80F-6F886BA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B7F-F36B-417F-B547-578C8D35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939-3224-42C8-BC3C-B611BBE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97C1-2A8A-418B-ABE2-0F48971216A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B77F-BF33-47F1-AAA5-DB993C93E12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B1B8-689F-46DE-A4EA-0196A574B29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onna D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avid Z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1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3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Comparing quadratic relations with other relations (e.g. linear) provides insight into the defining characteristics of a quadratic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4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rela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When comparing trigonometric relations to other relations, the  periodic nature becomes a defining characterist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us your name and 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rel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Big Idea and write your own question (for Quadratic or Trig relations) that gets at that Big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member to label the Big Idea on your stic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name on the b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it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317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quadratic relations and four big ideas for trigonometric relations are posted, one on each side of each corner of the roo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two envel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envelope contains overall expectations from various grade 10, 11 and 12 courses related to quadratic relations OR trigonometric relations.  Select a partner. Choose an envelope and then select one expectation (so each pair will have two expectations) from that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partner, walk around the room and discuss the Big Ideas through the lens of your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 (You and your partner may need to separat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e for matching the overall expectation to that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How are the expectations for quadratic and trigonometric relations the same for that Big Idea?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Donna</cp:lastModifiedBy>
  <dcterms:modified xsi:type="dcterms:W3CDTF">2009-08-24T02:00:47Z</dcterms:modified>
  <cp:revision>122</cp:revision>
  <dc:subject/>
  <dc:title>Math GAINS 2008-09</dc:title>
</cp:coreProperties>
</file>